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1323-3542-4B26-AA00-8C3584103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1F5B-1664-410F-8514-C0E1B3572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3F09-E505-4C33-B1D4-1F62F12B0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44FB-1739-4109-9A29-EA25A90C2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A0FA-2947-49FB-B6AB-B3D481C5A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DFEB-6D1B-451F-B735-3B582C0A4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030D-F6AD-42CD-81B6-10A1E4CD0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4DAE-44C1-4881-A8C9-D19FB265E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508F-C20D-40E2-9E53-42B80318D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E868-28C6-4376-87BD-2502D723F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510E-0586-4B93-A896-31E1284EC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D77D-7F0A-4F21-BC1A-770E65B8E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17F9-A96A-402C-A291-C79BC80A2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675B-5A7A-4B46-9041-DB777C7B4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F372-5252-44AB-8980-30547E401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9424-5A3C-4B19-A96C-C753BF4BD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5142-7A65-41E5-9E25-218FF7D1A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AB23-4706-421E-9176-F777F1C0C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7881-C80E-47D7-AA18-10C91B028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E7CF-136C-42DB-8B2E-F9A3D72BC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A177-E40F-40EA-97D2-398EF231A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B0E1-BA19-4C39-9146-094F351B5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CA52-1A01-4AA9-A6EF-EF57EAF8E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FDC1-822A-48A8-8EB4-9779A9E98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A216-274B-4694-A7C6-F298D3E24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9B76-03CC-4ABD-BDE5-BF82C47CE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8BB0-B31A-435E-BBA5-339EA253C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3A88-6E17-4034-8927-E13300840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395-AD15-44D4-B30F-B06EAF67F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12EA-9C3C-4401-B85D-946919803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2D46-2C6F-4D2F-B068-4A307FA4B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4C4E-B0B6-4F41-BA33-5B6F2BA0D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C871-097F-4B43-9807-29ED722A2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F2EC-C8C5-479C-B872-EC18E910C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1AA1-2CE2-400D-99D7-0C1A5EE1E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27DF-EE2B-4CA6-949B-121B12A6C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FFBF-5D7B-42BC-A4D1-FC9646778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3A3F-93A8-4E7C-8F96-6072DD958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C856-A938-474A-BFE0-646C94726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87FC-8A3D-4785-A34B-AA8A7B825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E725-2CB3-4570-A6C4-FBF960414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B095-FC8A-419E-BBFA-41AC426BA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A189-F110-4FEC-8BD8-A7A73E3E8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3B65-C169-40FC-8455-6FC5BD1BA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657B-1FF1-4DF5-8FDD-D1F1E8F77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3604-2019-4BC2-83ED-F7096D0BA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E44D-9D0C-4B92-8A0B-A60907A26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49F8-5AD9-4BFB-93B0-925469FFA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75C7-72AC-4DC6-8E70-5D5433F50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CC8E-4362-4858-A71F-75CE2B5AE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6EE3-E204-41EF-AFA7-0BBD43A2B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B44C-3FF5-4B02-8238-51F678E52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973A-E576-4CF8-BD32-C9E33413B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E9D-A95D-4037-8FA6-DA030235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61C-D45E-4D77-89E7-715F999C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9DD-2F8F-4EFD-9CC9-45C28EC2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BF9-0AEA-4D77-94FD-8964744A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B99E-D90E-4903-A4C7-6EB6EBEA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8D02-56D6-4CEC-B727-2A54CB8C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ED7F-B5F1-49F6-94A8-3E04B4D5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016A-6F03-4405-90D9-0AD54F55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CA3C-CBB8-4664-BE65-15C02BB5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EC67-CB81-403E-A877-0B3F71AB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D92D-6FDF-4C5C-9851-E50DF4D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DF9-7D1C-4161-B053-C4EACD54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6FF8-B5A6-4A4E-BDA9-78A52A65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8667-40AE-4A3A-94D4-666946E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C855-854B-43D2-8213-CAD7620C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5703-8964-4511-A0D6-474F9FB8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2169-A498-4F82-B896-3FC1E7CC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7A8-077F-41F6-92D9-BFCA4F9B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2CA-C558-4853-A1D9-A38EE684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5E7-15C6-4DF7-979E-017AA257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5FF-2D23-4777-86D3-A8B3B7E7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FE0-3B6C-4D7E-BDB2-D576A2B5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EC9-7E30-4140-8F9C-5D3106DC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B84-B516-461F-899E-635A730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E334-80B6-4567-B111-F099F8F04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762120" y="4322880"/>
            <a:ext cx="708948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late and appl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ake information from several sources and  use it to create a new ideas or new information is t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nthesiz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never give up, to work through difficult and challenging work is an example of which OLHS habit of mind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llectual Perseverance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flecting upon the steps you took to accomplish a math problem so that  you can remember how to do it again is an example of this habit of mind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acogn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king up the lyrics of a song you heard on the radio is an example of this OLHS Habit of Min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llectual Curios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nning a football play over and over again until you are sure you have it is an  example of this Habit of Mind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College Read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Habits of Mi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Ethic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Vocabu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True or 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llectual Perseveran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nking about your own thinking is example of this Habit of Min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acogni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word is a synonym for ethic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alues or moral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following your gut feelings about something; do you feel good about it or guilty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ics of Consci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ics of virtue can be described a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llowing the desire to prove yourself to be the most perfect person you can b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following what is right for you, regardless of the consequences to oth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cribe the elements of descrip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ics of Ego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f False: We study ethics because people’s assumptions, and values influence tex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someone who believes life is already determined and that one’s choices have little impact on the outcome of one’s lif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talis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ilosophical beliefs ar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et of principles, values, or ethic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the art or science of governing or the workings of governme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itic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word means “not about or having to do with religion”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provide quantitative and qualitative details of something observab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ula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word is a synonym for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ssumption, value, and eth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lief or Opin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: Society’s view of nature does not change over time or influence tex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:  Only print is considered tex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: Writing about one’s own opinion and beliefs is considered objectiv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: All texts contain an argument of some kind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mmarize is to 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ue or False: An important activity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Dur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Read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o note the external features of a tex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ls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condense a text or information to its most important main ideas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efinition of analysis is t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reak something down into its basic parts, to study something closel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use something  you learn  in a new situation is this college readiness skill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michelle.clark-cadwe</cp:lastModifiedBy>
  <dcterms:modified xsi:type="dcterms:W3CDTF">2013-08-13T15:35:05Z</dcterms:modified>
  <cp:revision>25</cp:revision>
  <dc:subject>Jeopardy Template</dc:subject>
  <dc:title>POWERPOINT JEOPARDY</dc:title>
</cp:coreProperties>
</file>